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28.wmf" ContentType="image/x-wmf"/>
  <Override PartName="/ppt/media/image27.jpeg" ContentType="image/jpeg"/>
  <Override PartName="/ppt/media/image5.wmf" ContentType="image/x-wmf"/>
  <Override PartName="/ppt/media/image10.png" ContentType="image/png"/>
  <Override PartName="/ppt/media/image33.jpeg" ContentType="image/jpeg"/>
  <Override PartName="/ppt/media/image30.jpeg" ContentType="image/jpeg"/>
  <Override PartName="/ppt/media/image15.png" ContentType="image/png"/>
  <Override PartName="/ppt/media/image31.wmf" ContentType="image/x-wmf"/>
  <Override PartName="/ppt/media/image11.png" ContentType="image/png"/>
  <Override PartName="/ppt/media/image9.png" ContentType="image/png"/>
  <Override PartName="/ppt/media/image6.png" ContentType="image/png"/>
  <Override PartName="/ppt/media/image4.png" ContentType="image/png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18.wmf" ContentType="image/x-wmf"/>
  <Override PartName="/ppt/media/image26.jpeg" ContentType="image/jpe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257F-BECE-43CB-862B-4187D6FE5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7035-4B5B-4A12-AFC3-3BD1F07EA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2001-FDAD-4BA7-9964-FCC735F32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0143-5104-4E51-B668-8A7A857AF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33A4-7ED9-435F-AB11-B0B2C4BDD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103A-AC2F-42E5-AA04-31CDB51F3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8C4B-BE05-4B16-9AAE-3492488C6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132E-95D4-498E-8624-A566913CC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5B91-26CE-420D-9A22-5EB1434FE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BAFB-C57D-4C99-8563-FD7670EBB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3C1E-594A-44C3-9474-267D4EA60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6B3B-98C9-4877-95F7-CC01A3DA0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8925-66DF-47CF-B7F4-D64871047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C169-1AD5-4C81-847B-817D6E3DA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1C85-B76E-495D-9835-9F9EE5429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E74E-C748-4F1F-A208-A603604AE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6428-680E-49CB-9FF4-F9BEE5367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590-56B8-4D89-B4EC-0C6D26F4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F85-807C-490D-85C6-7AF40644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D6C-B12D-439C-A768-5F0A828D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839-B5F9-47BE-81D7-EEC93271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41F2-A6BA-4917-9606-D2035644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A824-E68B-45D8-A72A-A635C3E5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5D03-DCF7-4568-AAA2-FA5D5998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1A1D-8923-451B-B411-880D18E4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1835-002F-4762-8380-14A733F1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0F48-B2A8-4CB2-8FD8-B43DFDD0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0A31-3971-4C02-8B84-39A48434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3EF-B81B-4546-94A8-1934A2E6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7A4A-6EB6-4322-B3B0-F3F2D0D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AF64-A89B-4CBB-8FC5-5D92F9FF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4369-E656-4CF2-8018-611131DD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17A0-BCD2-417E-8CAF-EB92A30A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00A7-BACF-4126-B291-0A71E016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76B-A090-40DD-8FA5-8444D807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CB3-4584-459E-8D6F-09C725DA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B49-B4F0-43F6-9900-9E17115D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E10-E7E7-4999-98EE-C2D98F98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262-9086-43B4-8FD5-0D7C8ED3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146-5286-448F-A788-65FC926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3B5-38E0-40A4-8D10-FDB943B2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9D1C-33AB-414C-B370-5F42F98049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BDD3-C639-459D-A4E7-5E4C408BDF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snbc.msn.com/id/42569811/ns/us_news-life/t/yale-student-dies-chemistry-lab-accident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it 1(Intro to Biology), Part 2 Notes – Lab Safe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 Safety Equi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85680"/>
            <a:ext cx="44956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ggested that you wear glasses and not contact l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ggles with vents vs. goggles without 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: Aprons and Glo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219480" y="2209680"/>
            <a:ext cx="2509920" cy="339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562120" cy="3343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457200" y="220968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 Safety Equi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 Extinguis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 Blanket: used for fires on hair or cl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 Wa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352600" cy="2210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2905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quipment Usage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st of replacing glassware or equipment caused b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glig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uld be the responsibility of the stude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neglig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Chipped or cracked glassware shoul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Broken glassware should 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special glass disposa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f a piece of glassware gets broken, do n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clean it up by yourself. Notify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r protective goggles and a lab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on whenever heating or pour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 mix chemicals together unles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are told to do so (and then only in 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 touch, smell, or taste an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6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471320" cy="19047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need to smell the odor of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mical, waft the fumes towar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ose with one hand.  Do n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your nose over the containe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our water into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d acid.  Acid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poured slowly into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 Follow the instructions of you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when disposing of al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micals.  (Solid wastes should 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d in the s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 Wash your hands after handl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ing Biological Materi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any live or preserved specimens, be RESPECTFU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 caution when using sharp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ose of all biological materials as directed by the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y electrical cords where n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trip on them or ge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sure your hands and your la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a are dry before us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oke anything int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ical outl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6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1627200" cy="22096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do We Talk about Lab Safet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msnbc.msn.com/id/42569811/ns/us_news-life/t/yale-student-dies-chemistry-lab-accident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 burners and hotplates cool down befo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uching them. Test to see if they are coo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ough by bringing the back of your h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Use tongs and/or protective gloves to hand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 ob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 Never reach across an open flame or burn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 Tie back long hair and do not wear loo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.  Always point the top ends of test tubes that a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ng heated away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.  When heating a test tube, move it around slowl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the flame to 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mediately flush wit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until burn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ts and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sing directly on min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ts will stop bleeding in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w minute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sh eyes immediate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plenty of water 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minutes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92420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Find out what substance wa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sible and alert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sh with large quantities o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bout Artic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ould have been done to prevent this accid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hould the university do in response to the accident to improve their lab safety practic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Listen to or read instructions careful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attempting to do 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 Wear proper protective gea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priate clo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Notify your teacher if any spills 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Object 5" descr=""/>
          <p:cNvPicPr/>
          <p:nvPr/>
        </p:nvPicPr>
        <p:blipFill>
          <a:blip r:embed="rId1"/>
          <a:stretch/>
        </p:blipFill>
        <p:spPr>
          <a:xfrm>
            <a:off x="5486400" y="4610160"/>
            <a:ext cx="26668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53341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handling chemicals, always wash your hands with soap and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ing lab work, keep your hand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way from your face and tie back your ha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981080" cy="14684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23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Know the location lab safe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 Keep your work area uncluttered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Object 5" descr=""/>
          <p:cNvPicPr/>
          <p:nvPr/>
        </p:nvPicPr>
        <p:blipFill>
          <a:blip r:embed="rId1"/>
          <a:stretch/>
        </p:blipFill>
        <p:spPr>
          <a:xfrm>
            <a:off x="3657600" y="4495680"/>
            <a:ext cx="2286000" cy="1602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562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ut anyth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mouth during a la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n up your lab are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conclusion o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“horse around” 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 practical jokes i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2548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havior in the Science Classro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should not touch equipment unless given proper instructions and permission by the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read your lab procedur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, drink, and gum are a N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ize clu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274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ropriate Clot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open-toed sho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 Hair 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l up loose slee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rsey Material: will mel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562720" y="3743280"/>
            <a:ext cx="1746000" cy="311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553080" y="18288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Windows User</cp:lastModifiedBy>
  <dcterms:modified xsi:type="dcterms:W3CDTF">2014-09-02T18:20:39Z</dcterms:modified>
  <cp:revision>88</cp:revision>
  <dc:subject/>
  <dc:title>Lab Safety</dc:title>
</cp:coreProperties>
</file>